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03711C-8B31-4C2D-B8D6-7D0BADED8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EEBF56-CE1C-4A50-BA5F-06C866A10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78C64A-954F-4F1A-ABEE-982FD730B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80687F-85FD-4256-998E-3FD6AA5A2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A392E-714B-4132-AB7C-9729BEBE1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87A5B-EBF9-48B8-9558-4228A304F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9AD86-BF44-45EF-A885-C20539261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E51BD-49D8-475C-96BD-7472D7B52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B954E-B2BE-4B73-919B-2AAD25FB6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875C3-88BF-48C6-9004-96D0C8366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5C853-016B-4A0C-A044-0B7759E6B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CCE3E1-0AC8-4EBD-B18F-93919F654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BC91C-76F1-47BC-B818-FC36AF035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1FCCD-39A7-4F42-BC01-C35054F82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F8C04-00DE-4B72-9D46-2BE6D029C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E0E58-475F-4CBB-A87D-265CF5F54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36CEB-8B4E-4E72-8A0D-40A18B0B8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B8DE64-22FB-4BAF-88D7-9C7FA5EF2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9296D3-8033-4854-9F99-C70D910BA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4B0465-CD33-4A9D-A47C-23D7F2BD3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1CF3D5-DA32-4C34-804C-B251A5AF8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BA6B13-6048-432C-A637-1DE10BFF2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C8E023-27C0-4E60-B0E3-FC8ACA687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D56E27-1C47-485F-88FA-6C8F46EB3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004E0-14CD-480C-893B-C06A74896AF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6A1D0-E66C-4729-A1B4-28AB4559319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Arial"/>
              </a:rPr>
              <a:t>Collaborative TB/HIV Activit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ollaborative TB/HIV activ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SzPct val="7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o establish the mechanisms for collabo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7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o decrease the burden of TB in PLWH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7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o decrease the burden of HIV in TB pati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7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olitical commitment, partnerships, and budgetary priority</a:t>
            </a:r>
            <a:r>
              <a:rPr b="1" lang="en-GB" sz="3200" spc="-1" strike="noStrike">
                <a:solidFill>
                  <a:srgbClr val="ffffff"/>
                </a:solidFill>
                <a:latin typeface="Arial-BoldMT"/>
              </a:rPr>
              <a:t> D.1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A. To establish the mechanisms for collabor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.1 A coordinating body for TB/HIV activities that is effective at all lev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.2 Surveillance of HIV-prevalence among TB pati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.3 Joint TB/HIV plan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.4 Monitoring and eval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able 1. Recommended collaborative TB/HIV activ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B. To decrease the burden of TB in PLWH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.1 Intensified TB case-fin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.2 Treatment of latent TB-infection (TB preventive therap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.3 TB infection control in health care and congregate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C. To decrease the burden of HIV in TB pati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.1 HIV testing and counsel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.2 HIV prevention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.3 Co-trimoxazole preventive thera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.4 HIV/AIDS care and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.5 Antiretroviral thera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. Political commitment, partnerships and budgetary prio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.1.1. National TB policy addresses links between TB and HI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.1.2. National HIV/AIDS policy address links between TB and HI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.2.1.Involvement of range of governmental, NGO, community and private partn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.3.1.Percentage of total budget required for planned collaborative TB/HIV activities that was actually avail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33520" y="9907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Group work: Use indicators to collect data and to report perform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400" y="29718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roups 1 and 2: Design an outline report to a minister of health on making progress in collaborative TB/HIV program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roups 3 and 4: Design a data collection form for a collaborative TB/HIV programme at district leve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arolina Population Center</cp:lastModifiedBy>
  <dcterms:modified xsi:type="dcterms:W3CDTF">2006-11-21T16:17:24Z</dcterms:modified>
  <cp:revision>21</cp:revision>
  <dc:subject/>
  <dc:title>PowerPoint Presentation</dc:title>
</cp:coreProperties>
</file>